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3CE-F1D9-438B-85BE-EA0ADE77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95B-18F4-40A8-89BE-9A1E84D3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ADD-B8BD-471B-9EE0-34821CEA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259-FDFF-4B58-924B-C801E3B5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AB6-E386-4558-BF04-C7DB2296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84F-ADE1-420D-AEF6-0DEE8EA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0C2-E76F-4A74-8A55-49366CA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E07-A276-44C6-9FBD-F968100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BDF-38F5-41FD-9FC0-15B8EDC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8BE-54FD-4D2D-81C5-E5306FA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4E8-91CE-4667-BF99-5D48A57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BE8-DB1A-41FD-916C-B11836C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77F-1111-4E2E-B058-2E4264A74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ake Up Bell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up bellwork is for those who are absent and need to make up a day or two of 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ur nearest star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ur sun create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 is ball or sphere of gases that produces energy through the fusion of ______ into 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energy reach us from the su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. Fusion is when lighter elements combine to make ____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3352680"/>
            <a:ext cx="19047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ydrogen Fusion burns _____ into 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er of the sun that can only be seen during a n eclipse is called the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unspot cycle repeats every _______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sun produces energy by forming helium in its 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uring hydrogen fusion, _______ hydrogen atoms come together to make _____ helium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 is a ball or sphere of gases that produces heat and light through the ____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sion is the combining of ____elements (hydrogen) to form ____elements (hel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Our sun converts _____ into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ydrogen fusion takes place in th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uring hydrogen fusion, _______ hydrogen atoms come together to make _____ helium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4800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 an H-R diagram, bright blue stars are in the _____  ____ corner of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 an H-R diagram, cool, red dim stars are in the _____  _____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 the H-R diagram to answer the following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n the H-R diagram The sun is  at position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4800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sequence stars include locations ___,____, and 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276720"/>
            <a:ext cx="190512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3103560"/>
            <a:ext cx="4191120" cy="375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800000">
            <a:off x="7162560" y="3504240"/>
            <a:ext cx="6555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8488080" y="3961440"/>
            <a:ext cx="6555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800000">
            <a:off x="8238960" y="5834520"/>
            <a:ext cx="52416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5648040" y="4234320"/>
            <a:ext cx="5238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7162560" y="5028120"/>
            <a:ext cx="5238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06668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e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705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Helium (#2) through Iron (#26) formed during ______ in massive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larger than Iron, formed in a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t’s main sequence phase, our sun will spend most of it’s ___ billion year lifespan fusing hydrogen into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ll stars are born in a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nto which of the following life cycle stages will the sun enter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352680"/>
            <a:ext cx="1752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g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29:48Z</dcterms:created>
  <dc:creator>jfuller</dc:creator>
  <dc:description/>
  <dc:language>en-US</dc:language>
  <cp:lastModifiedBy>jfuller</cp:lastModifiedBy>
  <dcterms:modified xsi:type="dcterms:W3CDTF">2012-01-31T22:38:42Z</dcterms:modified>
  <cp:revision>3</cp:revision>
  <dc:subject/>
  <dc:title>Make Up Bellwork</dc:title>
</cp:coreProperties>
</file>